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60B-50FB-4EDA-B15E-DE8ED716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408-0F6D-4965-9158-D6714C3D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BE97-7AA1-4A85-886E-E8E4087F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46D-EEDF-4F7B-AF37-2BA3B2CD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A3D7-22EA-48E9-A7E0-108FB268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F98B-2351-4E75-B35E-407DD7CD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9F7F-5F6D-41EC-8E65-2A0AEA24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D1A1-D128-412F-9437-7A5CB20C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01C8-CF53-4C32-A7C4-0E42ED69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DE66-41F7-42BC-A8DE-EDD94041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B5EF-386D-440E-8CDE-325B0595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747-964D-4E87-9F69-5534355A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7177-CF2E-4661-8413-74B512E9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93F4-0BC9-4A11-850A-F32A3DD1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BCA2-3A05-4024-A35C-B2677865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0E04-ED8C-4BD0-88D4-429A19A3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BBD6-6E30-4ACF-970C-C2F0EFE5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40076-49BB-4B82-97EA-715E69A7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CEE24-4D6A-4415-9D6A-1DCBB233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F3BDE-81A5-4984-99AF-2DB1E494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90D5B-5272-471E-B67E-E72C495E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4CF3A-309A-4D5E-9AD2-3E4D00EF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35A-6537-4339-A0A9-033B451F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2378F-DFE7-4B36-BF40-677BF742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DAB96-E80C-4BCB-89BA-E164B59D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A471D-4421-42E9-9DAA-97EA7924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E7A6A-7E56-4945-AE22-4A93E9C1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5AB6D-F640-4358-9598-3BA3A443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B83D1-7285-4EC8-8151-FE66D371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3C42A-FD11-4289-85DF-895E6B27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16002-2696-437C-8255-8A72E3E2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0E47C-787F-4B71-B9F6-927959A4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85E58-89C2-413F-BC49-77EA9C11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75C-5FB7-4C3E-8FAE-CF9C9260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3EFFD-A350-4043-9C95-8E2A56BD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2C68F-5B2C-413E-85F5-EAE65847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53A80-D29A-46D2-8207-16932CEB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E1C8E-C0F9-4DA1-87B4-8B433288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B1A45-867C-42D7-BF38-C108CD5D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31EAB-D550-46FE-83F6-5CFFA8B9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8CFB0-D8DC-4B2B-9C19-36DBE801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ABCA1-69E9-4E1A-9242-3190592E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A1C04-F77A-4A08-9283-1CD9739A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27C-69BB-4511-9C7B-66025801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DB7-940B-4446-A483-1DA22430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9FD-8BCE-4B70-A6AD-70BA7E9D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87F-432E-485A-AB42-59AC2CA4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56F-BD50-4175-8369-F48CA815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9cb3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b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63a53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7c2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2e08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b3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9cb3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9cb38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9cb38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39C6-7995-4AC9-B6AB-455C411F48B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69DE-4320-4B8A-BB56-55CA9BCDD917}" type="slidenum">
              <a:rPr b="0" lang="en-US" sz="900" spc="-1" strike="noStrike">
                <a:solidFill>
                  <a:srgbClr val="99cb3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8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9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9cb3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b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32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63a53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7c2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2e08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b3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6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9cb3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37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9cb38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9cb38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866A-D47B-4BDD-B58B-338CC5A9067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9788-CEBF-4EFF-916E-6A71C57E8F63}" type="slidenum">
              <a:rPr b="0" lang="en-US" sz="900" spc="-1" strike="noStrike">
                <a:solidFill>
                  <a:srgbClr val="99cb3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9cb3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b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63a53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7c2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2e08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b3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9cb3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9cb38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2e088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2e088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9cb38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0170-53E9-44CB-92D4-9F5F2254404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D5A7-55BB-44B9-A4A3-7F08B4A69841}" type="slidenum">
              <a:rPr b="0" lang="en-US" sz="900" spc="-1" strike="noStrike">
                <a:solidFill>
                  <a:srgbClr val="99cb3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9cb3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b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63a53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7c2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2e08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b3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9cb3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9cb38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2e088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2e088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9cb38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02A9-3300-45C3-A3ED-3A93FB6922D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30E5-D783-47B4-8524-A945CA772BC4}" type="slidenum">
              <a:rPr b="0" lang="en-US" sz="900" spc="-1" strike="noStrike">
                <a:solidFill>
                  <a:srgbClr val="99cb3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22200" y="816120"/>
            <a:ext cx="8396640" cy="221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5400" spc="-1" strike="noStrike">
                <a:solidFill>
                  <a:srgbClr val="99cb38"/>
                </a:solidFill>
                <a:latin typeface="Trebuchet MS"/>
              </a:rPr>
              <a:t>Neural Machine Translation in Linear Time (ByteNet)</a:t>
            </a:r>
            <a:endParaRPr b="0" lang="en-US" sz="54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221840" y="3557160"/>
            <a:ext cx="7767720" cy="26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rebuchet MS"/>
              </a:rPr>
              <a:t>Author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cb38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rebuchet MS"/>
              </a:rPr>
              <a:t>Nal Kalchbrenn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cb38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rebuchet MS"/>
              </a:rPr>
              <a:t>Lasse Espehol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cb38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rebuchet MS"/>
              </a:rPr>
              <a:t>Karen Simony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cb38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rebuchet MS"/>
              </a:rPr>
              <a:t>Aäron van den Oo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cb38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rebuchet MS"/>
              </a:rPr>
              <a:t>Alex Grav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cb38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rebuchet MS"/>
              </a:rPr>
              <a:t>Koray Kavukcuoglu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rebuchet MS"/>
              </a:rPr>
              <a:t>Presented by: John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251A-28D6-46E0-B366-7AC09AF94A2C}" type="slidenum">
              <a:rPr b="0" lang="en-US" sz="900" spc="-1" strike="noStrike">
                <a:solidFill>
                  <a:srgbClr val="99cb38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9618840" y="138240"/>
            <a:ext cx="226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bf5d7"/>
                </a:solidFill>
                <a:latin typeface="Trebuchet MS"/>
              </a:rPr>
              <a:t>A 2016 paper from DeepMi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9cb38"/>
                </a:solidFill>
                <a:latin typeface="Trebuchet MS"/>
              </a:rPr>
              <a:t>Weaknesses of RNN-based Enc-Dec</a:t>
            </a:r>
            <a:endParaRPr b="0" lang="en-US" sz="40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1730520"/>
            <a:ext cx="859644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000" spc="-1" strike="noStrike">
                <a:solidFill>
                  <a:srgbClr val="404040"/>
                </a:solidFill>
                <a:latin typeface="Trebuchet MS"/>
              </a:rPr>
              <a:t>RNNs have an inherently serial structure that prevents them from being run in parallel along the sequence length during training and evaluation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800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000" spc="-1" strike="noStrike">
                <a:solidFill>
                  <a:srgbClr val="404040"/>
                </a:solidFill>
                <a:latin typeface="Trebuchet MS"/>
              </a:rPr>
              <a:t>Forward and backward signals in a RNN also need to traverse the full distance of the serial path to reach from one token in the sequence to another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800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MY" sz="2000" spc="-1" strike="noStrike">
                <a:solidFill>
                  <a:srgbClr val="404040"/>
                </a:solidFill>
                <a:latin typeface="Trebuchet MS"/>
              </a:rPr>
              <a:t>The larger the distance, the harder it is to learn the dependencies between the tokens </a:t>
            </a:r>
            <a:r>
              <a:rPr b="0" lang="en-MY" sz="1800" spc="-1" strike="noStrike">
                <a:solidFill>
                  <a:srgbClr val="404040"/>
                </a:solidFill>
                <a:latin typeface="Trebuchet MS"/>
              </a:rPr>
              <a:t>[2]</a:t>
            </a:r>
            <a:r>
              <a:rPr b="0" lang="en-MY" sz="20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800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000" spc="-1" strike="noStrike">
                <a:solidFill>
                  <a:srgbClr val="404040"/>
                </a:solidFill>
                <a:latin typeface="Trebuchet MS"/>
              </a:rPr>
              <a:t>Many processes the source sequence into a constant size representation, burdening the model with a memorization step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722E-C329-4948-BF04-38472D521BAF}" type="slidenum">
              <a:rPr b="0" lang="en-US" sz="900" spc="-1" strike="noStrike">
                <a:solidFill>
                  <a:srgbClr val="99cb38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9cb38"/>
                </a:solidFill>
                <a:latin typeface="Trebuchet MS"/>
              </a:rPr>
              <a:t>ByteNet</a:t>
            </a:r>
            <a:endParaRPr b="0" lang="en-US" sz="40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502D-F752-4C93-93A7-DE22391B030E}" type="slidenum">
              <a:rPr b="0" lang="en-US" sz="900" spc="-1" strike="noStrike">
                <a:solidFill>
                  <a:srgbClr val="99cb38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Content Placeholder 2"/>
          <p:cNvSpPr/>
          <p:nvPr/>
        </p:nvSpPr>
        <p:spPr>
          <a:xfrm>
            <a:off x="677880" y="1730520"/>
            <a:ext cx="448308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000" spc="-1" strike="noStrike">
                <a:solidFill>
                  <a:srgbClr val="404040"/>
                </a:solidFill>
                <a:latin typeface="Trebuchet MS"/>
              </a:rPr>
              <a:t>The encoder processes the source string into a representation and is formed of one-dimensional </a:t>
            </a:r>
            <a:r>
              <a:rPr b="0" i="1" lang="en-MY" sz="2000" spc="-1" strike="noStrike">
                <a:solidFill>
                  <a:srgbClr val="404040"/>
                </a:solidFill>
                <a:latin typeface="Trebuchet MS"/>
              </a:rPr>
              <a:t>dilated</a:t>
            </a:r>
            <a:r>
              <a:rPr b="0" lang="en-MY" sz="2000" spc="-1" strike="noStrike">
                <a:solidFill>
                  <a:srgbClr val="404040"/>
                </a:solidFill>
                <a:latin typeface="Trebuchet MS"/>
              </a:rPr>
              <a:t> convolutional layer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800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000" spc="-1" strike="noStrike">
                <a:solidFill>
                  <a:srgbClr val="404040"/>
                </a:solidFill>
                <a:latin typeface="Trebuchet MS"/>
              </a:rPr>
              <a:t>The decoder is a language model that is formed of one-dimensional </a:t>
            </a:r>
            <a:r>
              <a:rPr b="0" i="1" lang="en-MY" sz="2000" spc="-1" strike="noStrike">
                <a:solidFill>
                  <a:srgbClr val="404040"/>
                </a:solidFill>
                <a:latin typeface="Trebuchet MS"/>
              </a:rPr>
              <a:t>dilated</a:t>
            </a:r>
            <a:r>
              <a:rPr b="0" lang="en-MY" sz="2000" spc="-1" strike="noStrike">
                <a:solidFill>
                  <a:srgbClr val="404040"/>
                </a:solidFill>
                <a:latin typeface="Trebuchet MS"/>
              </a:rPr>
              <a:t> convolutional layers that are </a:t>
            </a:r>
            <a:r>
              <a:rPr b="0" i="1" lang="en-MY" sz="2000" spc="-1" strike="noStrike">
                <a:solidFill>
                  <a:srgbClr val="404040"/>
                </a:solidFill>
                <a:latin typeface="Trebuchet MS"/>
              </a:rPr>
              <a:t>masked</a:t>
            </a:r>
            <a:r>
              <a:rPr b="0" lang="en-MY" sz="20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22" name="Group 9"/>
          <p:cNvGrpSpPr/>
          <p:nvPr/>
        </p:nvGrpSpPr>
        <p:grpSpPr>
          <a:xfrm>
            <a:off x="3341520" y="1536840"/>
            <a:ext cx="8123400" cy="4833720"/>
            <a:chOff x="3341520" y="1536840"/>
            <a:chExt cx="8123400" cy="4833720"/>
          </a:xfrm>
        </p:grpSpPr>
        <p:pic>
          <p:nvPicPr>
            <p:cNvPr id="223" name="Picture 10" descr=""/>
            <p:cNvPicPr/>
            <p:nvPr/>
          </p:nvPicPr>
          <p:blipFill>
            <a:blip r:embed="rId1"/>
            <a:stretch/>
          </p:blipFill>
          <p:spPr>
            <a:xfrm>
              <a:off x="5429520" y="1536840"/>
              <a:ext cx="592128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Arrow: Pentagon 11"/>
            <p:cNvSpPr/>
            <p:nvPr/>
          </p:nvSpPr>
          <p:spPr>
            <a:xfrm>
              <a:off x="3341520" y="5382720"/>
              <a:ext cx="2214720" cy="631440"/>
            </a:xfrm>
            <a:custGeom>
              <a:avLst/>
              <a:gdLst>
                <a:gd name="textAreaLeft" fmla="*/ 0 w 2214720"/>
                <a:gd name="textAreaRight" fmla="*/ 2215080 w 221472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58" y="0"/>
                  </a:lnTo>
                  <a:lnTo>
                    <a:pt x="21600" y="10800"/>
                  </a:lnTo>
                  <a:lnTo>
                    <a:pt x="1945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cap="rnd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rebuchet MS"/>
                </a:rPr>
                <a:t>Encoder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5" name="Arrow: Pentagon 12"/>
            <p:cNvSpPr/>
            <p:nvPr/>
          </p:nvSpPr>
          <p:spPr>
            <a:xfrm flipH="1">
              <a:off x="9273960" y="2012040"/>
              <a:ext cx="2190960" cy="631440"/>
            </a:xfrm>
            <a:custGeom>
              <a:avLst/>
              <a:gdLst>
                <a:gd name="textAreaLeft" fmla="*/ 0 w 2190960"/>
                <a:gd name="textAreaRight" fmla="*/ 2190960 w 219096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35" y="0"/>
                  </a:lnTo>
                  <a:lnTo>
                    <a:pt x="21600" y="10800"/>
                  </a:lnTo>
                  <a:lnTo>
                    <a:pt x="1943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cap="rnd" w="19080">
              <a:solidFill>
                <a:srgbClr val="4eb3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rebuchet MS"/>
                </a:rPr>
                <a:t>Decoder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6T04:28:56Z</dcterms:created>
  <dc:creator/>
  <dc:description/>
  <dc:language>en-US</dc:language>
  <cp:lastModifiedBy>cloudconvert_12</cp:lastModifiedBy>
  <dcterms:modified xsi:type="dcterms:W3CDTF">2024-07-04T07:47:32Z</dcterms:modified>
  <cp:revision>1</cp:revision>
  <dc:subject/>
  <dc:title>Neural Machine Translation in Linear Time (ByteNet)</dc:title>
</cp:coreProperties>
</file>